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183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18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62080" y="0"/>
            <a:ext cx="29559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931680" y="744480"/>
            <a:ext cx="495900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1120" y="4711680"/>
            <a:ext cx="5457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9419760"/>
            <a:ext cx="29559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62080" y="9419760"/>
            <a:ext cx="29559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2B98-1D92-4C12-A6D9-856425B05B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32040" y="744480"/>
            <a:ext cx="4959000" cy="37195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1120" y="4711680"/>
            <a:ext cx="5457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62440" y="9420120"/>
            <a:ext cx="2955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F5F-1CA6-46B7-A6AB-13E8076560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30240" y="744480"/>
            <a:ext cx="4960800" cy="37195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1120" y="4711680"/>
            <a:ext cx="5457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62440" y="9420120"/>
            <a:ext cx="2955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8273-BADE-4F1D-B96C-23C72F050B79}" type="slidenum">
              <a:rPr b="1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32040" y="744480"/>
            <a:ext cx="4959000" cy="37195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1120" y="4711680"/>
            <a:ext cx="54576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62440" y="9420120"/>
            <a:ext cx="29559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00AB-23A5-4DFC-855F-D637E5DA3D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D3A-2482-4DA8-BFFE-15031534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878-3036-4280-A303-F86788F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6EAC-D4E5-4A55-9772-57138386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40E-9389-4D80-8E4F-11560D3E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D61B-C2E1-4024-BA26-50C84237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7D35-D40D-406E-8F02-E899F34B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53F5-47C3-4B8E-AD5B-4791547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078-700E-4E55-A4CE-BF1A1F5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559B-1027-4A01-9B7B-306344B3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9C2F-09E0-4857-8269-1B5E403C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AB08-9217-4CF7-AEA6-9AF59FCE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7F2-CAF6-4286-BB3A-62453833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B35E-C67D-41A7-9D47-74CB2F5A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0E8E-D19F-4F8C-A511-307DE3C3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07E-6A02-4643-BFE8-3FCE0CC3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5DB1-D6CA-47D2-993D-5F3A11D87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2C6C-9A6E-4449-9414-E40306D1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C092-9E20-4C7A-9906-1E8B3505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7A71-A5A3-4C32-9AC3-82B2512C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98521-FD53-49AB-ACE5-5C2158F2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13B3B-7F9F-4F8F-9E34-26F14EE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9794-2A61-47CA-AF1F-04A49EAC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DE89-9E55-41D9-8AA7-E769B66B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1DDE-081C-481C-8B2F-2AC092F0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7A8C-1E7C-451E-B375-0DA6B29E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179D8-E5DD-4807-B210-8E6B7C2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E10A8-A99C-4016-883D-72D680E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2FB33-E066-4831-94D5-83221D76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35E1B-9A10-4719-B511-C412CE62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4252-A56D-4CC6-95FF-08FC01DC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C0919-FCA7-4068-A5FB-4876E135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2C503-4639-4C29-9286-2049539E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0880-6AE1-4524-81BF-6407C45E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1CBC-C5B6-478B-B9D7-818028D1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DF8F9-5413-41E1-9071-4251F03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FCBF3-3D4E-4BF1-A282-B23F91F2D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69F75-5873-4C84-BEEF-7F13E845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17D2D-D8FD-4120-A283-5CE8E529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7297D-7FFC-47F0-8708-04B0B37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FE8B-82CA-4E9F-A7D3-CA7324D4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F971-3468-4D15-9FA0-C977400AD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74BC-A49C-4053-9659-C0326D5F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3D07E-8D9B-45D2-80E8-07F6659E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92A2-3DC5-44D1-ACCB-39AA2FA9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E56-83B1-4EAF-93E3-85A4DE39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B19-ABAD-4875-A2D7-CE323799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3A5-407F-459A-9035-C271355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DC8-4191-43C7-90A4-0CF5835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5164-4B9A-486D-B1F0-9C839DB868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12F4C-6FB0-44D9-AE58-31BD87C4D5F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105E-090B-4FE4-B865-53F5EA9E845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3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8DF0-DA79-4387-BEBE-2ADC8D2A48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ea.ec.europa.eu/en/cef/cef_transport/apply_for_funding/cef_transport_call_for_proposals_2014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1484280"/>
            <a:ext cx="8496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RTMS:</a:t>
            </a:r>
            <a:br>
              <a:rPr sz="3200"/>
            </a:br>
            <a:r>
              <a:rPr b="0" lang="en-GB" sz="3200" spc="-1" strike="noStrike">
                <a:solidFill>
                  <a:srgbClr val="ffd624"/>
                </a:solidFill>
                <a:latin typeface="Verdana"/>
              </a:rPr>
              <a:t>specifications, deployment, financing </a:t>
            </a:r>
            <a:r>
              <a:rPr b="0" lang="en-GB" sz="3200" spc="-1" strike="noStrike">
                <a:solidFill>
                  <a:srgbClr val="ffd624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68000" y="3428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4</a:t>
            </a:r>
            <a:r>
              <a:rPr b="0" lang="fr-BE" sz="2400" spc="-1" strike="noStrike" baseline="30000">
                <a:solidFill>
                  <a:srgbClr val="ffffff"/>
                </a:solidFill>
                <a:latin typeface="Verdana"/>
              </a:rPr>
              <a:t>th</a:t>
            </a: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 meeting of PRIME:</a:t>
            </a:r>
            <a:br>
              <a:rPr sz="2400"/>
            </a:b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the High Level Group of Infrastructure Manag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Verdana"/>
              </a:rPr>
              <a:t>Madrid – 24 October2014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ff"/>
                </a:solidFill>
                <a:latin typeface="Verdana"/>
              </a:rPr>
              <a:t>Patrizio Grillo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ff"/>
                </a:solidFill>
                <a:latin typeface="Verdana"/>
              </a:rPr>
              <a:t>Acting HoU, Single European rail area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2000" spc="-1" strike="noStrike">
                <a:solidFill>
                  <a:srgbClr val="ffffff"/>
                </a:solidFill>
                <a:latin typeface="Verdana"/>
              </a:rPr>
              <a:t>DG MOVE – European Mobility Network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3708360" y="5229360"/>
            <a:ext cx="511344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BA78-A804-496B-83F9-B2B4E9FFA874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BBF-6EE1-4C4D-8C5E-CBA292ECE5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806400" y="2708280"/>
            <a:ext cx="770580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The Work Plan will be submitted by the end of 2015, including</a:t>
            </a:r>
            <a:r>
              <a:rPr b="1" lang="fr-BE" sz="2200" spc="-1" strike="noStrike">
                <a:solidFill>
                  <a:srgbClr val="002060"/>
                </a:solidFill>
                <a:latin typeface="Verdana"/>
              </a:rPr>
              <a:t>: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 lvl="1" marL="900000" indent="-442800">
              <a:spcAft>
                <a:spcPts val="11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the Breakthrough program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900000" indent="-442800">
              <a:spcAft>
                <a:spcPts val="11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An implementation report and proposals for actions to achieve an interoperable Core Network by 2030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755640" y="1268280"/>
            <a:ext cx="7835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ERTMS and TEN-T: </a:t>
            </a:r>
            <a:br>
              <a:rPr sz="3200"/>
            </a:b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Coordinator's Work plan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95280" y="2707920"/>
            <a:ext cx="835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Users first” and not “Designers first” approach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Running everywhere in Europ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Focus on deployment, operation and maintenanc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Cost reduc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Quicker and cheaper authorisation process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755640" y="14000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Key principles of the breakthrough program: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54EA-6FB6-4FD6-9BEF-004A44AEAC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539640" y="1341360"/>
            <a:ext cx="8498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S</a:t>
            </a: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et of actions for achieving an interoperable Core Network by 2030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4" name="Content Placeholder 4"/>
          <p:cNvSpPr/>
          <p:nvPr/>
        </p:nvSpPr>
        <p:spPr>
          <a:xfrm>
            <a:off x="395280" y="2997360"/>
            <a:ext cx="8352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by end 2015: revised deployment plan 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by end 2015: stable specification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by end 2016: interoperable and compliant infrastructure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by end 2016: clear regulatory framework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1199"/>
              </a:spcAft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AF6-2528-4DE8-9C25-52CC868587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11280" y="134136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Specifications management: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the next release of baseline 3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7" name="Content Placeholder 4"/>
          <p:cNvSpPr/>
          <p:nvPr/>
        </p:nvSpPr>
        <p:spPr>
          <a:xfrm>
            <a:off x="324000" y="2276640"/>
            <a:ext cx="835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594360" indent="-228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100 Change Requests submitted to ERA have been analysed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2" marL="914400" indent="-1828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50% error corrections+50% enhancements</a:t>
            </a:r>
            <a:br>
              <a:rPr sz="1800"/>
            </a:b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594360" indent="-228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Priority: errors + some enhancements</a:t>
            </a:r>
            <a:br>
              <a:rPr sz="2400"/>
            </a:b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594360" indent="-228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ERA draft proposal: 50 change requests to be solved within one yea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2" marL="914400" indent="-1828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To be discussed in the ERTMS Working Group and RISC at the beginning of November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380B-5B6B-4573-9758-5219CE21F1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11280" y="1341360"/>
            <a:ext cx="8497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ERTMS and CEF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0" name="Content Placeholder 4"/>
          <p:cNvSpPr/>
          <p:nvPr/>
        </p:nvSpPr>
        <p:spPr>
          <a:xfrm>
            <a:off x="324000" y="2301840"/>
            <a:ext cx="856908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lvl="1" marL="371160" indent="-2944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The first CEF Call was launched in September, deadline for applications 26 February 2015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ERTMS is covered by funding objective 1 of the multi-annual call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45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More information: </a:t>
            </a:r>
            <a:r>
              <a:rPr b="1" lang="en-GB" sz="18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</a:t>
            </a:r>
            <a:r>
              <a:rPr b="1" lang="en-GB" sz="1800" spc="-1" strike="noStrike" u="sng">
                <a:solidFill>
                  <a:srgbClr val="0f5494"/>
                </a:solidFill>
                <a:uFillTx/>
                <a:latin typeface="Verdana"/>
              </a:rPr>
              <a:t>://inea.ec.europa.eu/en/cef/cef_transport/apply_for_funding/cef_transport_call_for_proposals_2014.htm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371160" indent="-29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79E2-7712-436D-B268-AEE2446B26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2" name="Content Placeholder 4"/>
          <p:cNvSpPr/>
          <p:nvPr/>
        </p:nvSpPr>
        <p:spPr>
          <a:xfrm>
            <a:off x="522360" y="2637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Call launched in June, contract to be signed soon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Aims to develop market based solutions for innovative financing of ERTMS deployment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2" marL="1200240" indent="-285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2060"/>
                </a:solidFill>
                <a:uFillTx/>
                <a:latin typeface="Verdana"/>
              </a:rPr>
              <a:t>on the ground</a:t>
            </a: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:  public-private partnership (PPPs)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200240" indent="-285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2060"/>
                </a:solidFill>
                <a:uFillTx/>
                <a:latin typeface="Verdana"/>
              </a:rPr>
              <a:t>on-board</a:t>
            </a: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: analysis of existing national scheme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1200240" indent="-28584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2060"/>
                </a:solidFill>
                <a:uFillTx/>
                <a:latin typeface="Verdana"/>
              </a:rPr>
              <a:t>on-board and on the ground: </a:t>
            </a: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a new </a:t>
            </a:r>
            <a:br>
              <a:rPr sz="1800"/>
            </a:b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TEN-T corridor-specific business model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611280" y="134136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CEF Program Support Action 1: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Study on innovative financing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F40-0CA6-4646-85FB-46EC149EEE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5" name="Content Placeholder 4"/>
          <p:cNvSpPr/>
          <p:nvPr/>
        </p:nvSpPr>
        <p:spPr>
          <a:xfrm>
            <a:off x="557280" y="2781360"/>
            <a:ext cx="8351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Call launched in August, contract to be signed before the end of 2014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Three domains of technical assistance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2" marL="994320" indent="-2484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deployment programme management, coordination, cooperation, inform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994320" indent="-2484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technical assistance and follow-up of EU funded projects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2" marL="994320" indent="-24840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</a:rPr>
              <a:t>economic assistance.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</a:rPr>
              <a:t>More information: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f5494"/>
                </a:solidFill>
                <a:uFillTx/>
                <a:latin typeface="Verdana"/>
              </a:rPr>
              <a:t>http://ec.europa.eu/transport/facts-fundings/tenders/doc/specifications/2014/s161-288265-specifications.pdf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 marL="298440" indent="-2984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611280" y="1341360"/>
            <a:ext cx="84978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Verdana"/>
              </a:rPr>
              <a:t>CEF Program Support Action 2: 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Verdana"/>
              </a:rPr>
              <a:t>Technical assistance for ERTMS deployment along the core corrido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1"/>
          <p:cNvSpPr/>
          <p:nvPr/>
        </p:nvSpPr>
        <p:spPr>
          <a:xfrm>
            <a:off x="468360" y="2492280"/>
            <a:ext cx="828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Verdana"/>
              </a:rPr>
              <a:t>Thank you for your attention !</a:t>
            </a: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G MOVE B2</cp:lastModifiedBy>
  <cp:lastPrinted>2014-06-02T15:01:21Z</cp:lastPrinted>
  <dcterms:modified xsi:type="dcterms:W3CDTF">2014-10-20T11:04:41Z</dcterms:modified>
  <cp:revision>414</cp:revision>
  <dc:subject/>
  <dc:title>Slide 1</dc:title>
</cp:coreProperties>
</file>